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AE2-75BB-42DC-8CED-E33D06DB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354-105E-49FA-9374-B4D1E67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9F1-94B7-42E7-9C70-F74169E7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3DF-293F-4252-B7D9-096F05A3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35A-7CA1-48AA-AB3B-6033691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A9C-411D-48C1-AD70-A488C58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98B-1013-4176-87CF-BB30D70F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0BE-6AA7-4879-B04D-24D984A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92A-E121-4B4B-8C2F-AE9C2F5F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2FA-25D3-45EF-8871-B9892F7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E3D-E82B-4030-803B-D9FE92C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71C-2A32-4DE8-868F-915DBBB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F636-07FA-4567-9D93-7B75AA6D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10-15 dec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– 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28640"/>
          <a:ext cx="8196120" cy="45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19612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0:59:12Z</dcterms:modified>
  <cp:revision>5</cp:revision>
  <dc:subject/>
  <dc:title>Curs valutar</dc:title>
</cp:coreProperties>
</file>